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A59D-6FFF-4C31-A6DE-59CFE105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35E6-E463-4351-88BB-41E79DB8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A673-9CC7-423D-9A08-1635DCA1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4211-F8F2-40DC-AFA9-FE7EAB095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92C9-6388-4047-AD5A-E653BD29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DE5A-8E94-404C-9645-E7C8EA5B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D4F5-919E-4449-9471-1892551B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2FBB-21AE-4F3D-B53C-CB0819B6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2555-45CE-4E96-9FA7-960CE272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E909-6CDA-45D6-910F-B530F8A6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DE35-1E0B-4781-A401-7E6B227C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0B03-6907-482E-8964-95CE467A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5B7E-0FBD-4DF8-892A-CC7E4434A0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arren Willi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3429000" y="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2590920" y="11430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eek City- St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Documents and Settings\islpt137\My Documents\My Pictures\polis.jpg"/>
          <p:cNvPicPr/>
          <p:nvPr/>
        </p:nvPicPr>
        <p:blipFill>
          <a:blip r:embed="rId1"/>
          <a:stretch/>
        </p:blipFill>
        <p:spPr>
          <a:xfrm>
            <a:off x="0" y="1539720"/>
            <a:ext cx="914400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3429000" y="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1447920" y="114300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tudy of wisdom and the right way to l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Documents and Settings\islpt137\My Documents\My Pictures\philosophy.jpg"/>
          <p:cNvPicPr/>
          <p:nvPr/>
        </p:nvPicPr>
        <p:blipFill>
          <a:blip r:embed="rId1"/>
          <a:stretch/>
        </p:blipFill>
        <p:spPr>
          <a:xfrm>
            <a:off x="0" y="1949400"/>
            <a:ext cx="914400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3429000" y="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1447920" y="114300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rea of land nearly surrounded by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Documents and Settings\islpt137\My Documents\My Pictures\peninsula.jpg"/>
          <p:cNvPicPr/>
          <p:nvPr/>
        </p:nvPicPr>
        <p:blipFill>
          <a:blip r:embed="rId1"/>
          <a:stretch/>
        </p:blipFill>
        <p:spPr>
          <a:xfrm>
            <a:off x="0" y="1963800"/>
            <a:ext cx="914400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2362320" y="0"/>
            <a:ext cx="510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1447920" y="1143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ar between Athens and Spa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Documents and Settings\islpt137\My Documents\My Pictures\peloponnesian.jpg"/>
          <p:cNvPicPr/>
          <p:nvPr/>
        </p:nvPicPr>
        <p:blipFill>
          <a:blip r:embed="rId1"/>
          <a:stretch/>
        </p:blipFill>
        <p:spPr>
          <a:xfrm>
            <a:off x="0" y="1542960"/>
            <a:ext cx="91440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3429000" y="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1447920" y="114300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Documents and Settings\islpt137\My Documents\My Pictures\oligarchy.jpg"/>
          <p:cNvPicPr/>
          <p:nvPr/>
        </p:nvPicPr>
        <p:blipFill>
          <a:blip r:embed="rId1"/>
          <a:stretch/>
        </p:blipFill>
        <p:spPr>
          <a:xfrm>
            <a:off x="0" y="1976400"/>
            <a:ext cx="914400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3429000" y="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1447920" y="1143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heltered place along a coast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Documents and Settings\islpt137\My Documents\My Pictures\harbor.jpg"/>
          <p:cNvPicPr/>
          <p:nvPr/>
        </p:nvPicPr>
        <p:blipFill>
          <a:blip r:embed="rId1"/>
          <a:stretch/>
        </p:blipFill>
        <p:spPr>
          <a:xfrm>
            <a:off x="0" y="1549440"/>
            <a:ext cx="914400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C:\Documents and Settings\islpt137\My Documents\My Pictures\acropolis.jpg"/>
          <p:cNvPicPr/>
          <p:nvPr/>
        </p:nvPicPr>
        <p:blipFill>
          <a:blip r:embed="rId1"/>
          <a:stretch/>
        </p:blipFill>
        <p:spPr>
          <a:xfrm>
            <a:off x="0" y="1838160"/>
            <a:ext cx="914400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C:\Documents and Settings\islpt137\My Documents\My Pictures\agora.jpg"/>
          <p:cNvPicPr/>
          <p:nvPr/>
        </p:nvPicPr>
        <p:blipFill>
          <a:blip r:embed="rId1"/>
          <a:stretch/>
        </p:blipFill>
        <p:spPr>
          <a:xfrm>
            <a:off x="0" y="1486080"/>
            <a:ext cx="914400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2819520" y="45720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1143000" y="160020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 their 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islpt137\My Documents\My Pictures\assembly.jpg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3429000" y="53352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1371600" y="144792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Documents and Settings\islpt137\My Documents\My Pictures\citizen.jpg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3429000" y="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1447920" y="114300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oup of people who lived apart from Greece but kept economic ties with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ocuments and Settings\islpt137\My Documents\My Pictures\colony.jpg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"/>
          <p:cNvSpPr/>
          <p:nvPr/>
        </p:nvSpPr>
        <p:spPr>
          <a:xfrm>
            <a:off x="2971800" y="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2133720" y="91440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orm of government where people vote to make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Documents and Settings\islpt137\My Documents\My Pictures\democracy.jpg"/>
          <p:cNvPicPr/>
          <p:nvPr/>
        </p:nvPicPr>
        <p:blipFill>
          <a:blip r:embed="rId1"/>
          <a:stretch/>
        </p:blipFill>
        <p:spPr>
          <a:xfrm>
            <a:off x="0" y="1932120"/>
            <a:ext cx="914400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3429000" y="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1447920" y="114300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hear evidence and make decisions in a court of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Documents and Settings\islpt137\My Documents\My Pictures\jury.jpg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3048120" y="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752480" y="762120"/>
            <a:ext cx="54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headed by one ru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Documents and Settings\islpt137\My Documents\My Pictures\monarchy.jpg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21:01:19Z</dcterms:modified>
  <cp:revision>92</cp:revision>
  <dc:subject/>
  <dc:title>Ancient Greece</dc:title>
</cp:coreProperties>
</file>